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BC75-8984-4298-BDC7-45F3F168586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17DB-1099-481A-BDD9-64220DA51A0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37F08-4CBE-4D9C-ABA6-F5C3CF5673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7368-C508-4B90-81FC-F8CB1906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6D2E2-31C6-4E45-B9CD-7C122C67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DAF74-F5A8-437E-9107-E7B8F254FD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5D3CF-8C2A-4B18-880C-4CA10BF0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A150B-DD4E-454B-AAC2-3F4D56D8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33C64-9F3B-4048-B2FC-2F64CF0D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897C-5B79-4A47-9D6D-5646400B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18489-F7C2-4185-B736-C0696F63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B24B6-9CC8-4BE6-96D1-E24D8A32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60D65-176E-48BA-98D2-70F4EF5B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4CEF6-21E7-49A2-B235-CB17DCC5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805F-1911-42DD-8C24-98B83F6DC66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一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疗期间的护理须知（药疗监护内容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士在合理用药中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一、护理药理学内容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25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是研究药物与机体相互作用规律和原理的学科，包括药效学和药动学两方面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前者是阐明药物对机体的作用和作用原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后者阐明药物在机体内吸收、分布、生物转化和排泄等过程，及血药浓度随时间消长的规律，以达到指导临床合理用药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理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 in nursing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应是药理学的一个分支，它以人为对象，阐述临床如何合理用药和护士在合理用药中的地位及作用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5640" y="304560"/>
            <a:ext cx="635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二、护士在临床用药中的作用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士在临床第一线工作，是各种药物治疗的实施者，也是用药前后的监护者，因此护理人员在临床药物治疗中居重要地位。护士掌握更多的药理学知识，能更好协助医生诊治疾病和合理用药，使药物治疗达到最佳效果，对提高护理质量和医疗质量都具有重要意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10920" y="304560"/>
            <a:ext cx="650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三、药物治疗期间的护理须知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在药疗期间护理工作应注意以下几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医嘱前，应了解患者的诊断和病情，明确用药目的，掌握所用药物的药理作用、给药途径、剂量、用法、不良反应及防治措施和其它有关注意事项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护士应严格按医嘱给患者用药，若对医嘱有疑问时，应先与医生联系后再执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用药医嘱时，要做到明确医嘱目的，准确掌握剂量和用法，避免技术性事故发生，以提高护理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对不熟悉的药物，在用药前应查阅书籍，了解其药理作用，不良反应和护理注意事项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整个药物治疗过程中，护士有责任随时指导患者合理用药，在患者出院时也应向患者及其家属讲解所带药物的有关知识，特别是一些常见不良反应和注意事项，以保证出院后继续用药的安全有效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标题 1"/>
          <p:cNvSpPr/>
          <p:nvPr/>
        </p:nvSpPr>
        <p:spPr>
          <a:xfrm>
            <a:off x="2411280" y="304920"/>
            <a:ext cx="6504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药物治疗期间的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思考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简述护士在合理用药中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试述药物治疗期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间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的护理须知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34:34Z</dcterms:modified>
  <cp:revision>90</cp:revision>
  <dc:subject/>
  <dc:title>内科护理学</dc:title>
</cp:coreProperties>
</file>